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514DD-C268-4B2B-A4C7-6CC87E444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EE319-62D1-4370-9799-85969EB59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F3C33-9224-461D-A342-23E2B08D7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82F59-97B0-480A-A2A0-FDFC62410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5D8EC-4741-49C0-8738-F4E510C0B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F3F40-6683-4E1A-A24C-FA62E6C26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2184B-8D06-4A94-8796-6BAA8AFA9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CFA3E-68AD-4990-A4FC-2C4777077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EDD62-3D0F-43A0-A1CB-E3CBAA969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4CB0E-1624-42DD-A522-A76910CF5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B78EA-FF33-4C15-A7D7-1C968A455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85EA2-9360-4EC8-AE1D-C5DF68DE4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19AB3-95CF-4821-A0BE-AD1F29F59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A0FAF-6EB0-49A1-8221-ED8D18855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4CA6A-17AD-49B6-9514-E2D16B136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B488D-617E-4CDB-8765-7A314B224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360F4-D487-4BC7-802F-3416F53F7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15175-8414-4613-B084-F16F155CF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C3C86-1CD3-469B-AB9A-E7A74CC38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B0D74-CD87-436C-9BBA-B7C305935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A163B-4C58-4524-8D46-2747949C2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FA8C8-0A70-48AC-9C57-BF5B3D0DD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6C2DA-0F65-42E6-9589-DF465E202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7EEB0-778D-4959-831B-36C54B8FB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260F4-10AD-4AAA-92CC-1CE29225256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19B9E-1566-4553-9F37-E908592396A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shielded and Shielded 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shielded Twisted Pair (U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inary telephone wi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st to inst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ers from external EM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ielded Twisted Pair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al braid or sheathing that reduces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er to handle (thick, heav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TP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grade found in most off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of 7.5 cm to 10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20 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ly pre-installed in new office buildin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0.6 cm to 0.85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ar End Crosstal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of signal from one pair to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takes place when transmit signal entering the link couples back to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.e. near transmitted signal is picked up by near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20412" r="0" b="47008"/>
          <a:stretch/>
        </p:blipFill>
        <p:spPr>
          <a:xfrm>
            <a:off x="685800" y="1676520"/>
            <a:ext cx="77724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versatile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 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iel to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ble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10,000 voice calls simultane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ing replaced by fiber opt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distance computer systems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few 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if higher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5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1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for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60246" r="0" b="10168"/>
          <a:stretch/>
        </p:blipFill>
        <p:spPr>
          <a:xfrm>
            <a:off x="533520" y="1973160"/>
            <a:ext cx="838188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Benef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s of hundreds of G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ize &amp; we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attenu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magnetic iso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repeater spa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s of km at le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-haul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ropolitan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ural exchange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 as wave guide for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5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Hz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ions of infrared and visible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ght Emitting Diode (LE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r operating temp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st lon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jection Laser Diode (IL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velength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ided - wi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- wir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and quality determined by medium and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uided, the medium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nguided, the bandwidth produced by the antenna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concerns are data rate an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Transmission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9525"/>
          <a:stretch/>
        </p:blipFill>
        <p:spPr>
          <a:xfrm>
            <a:off x="609480" y="1679400"/>
            <a:ext cx="7925040" cy="51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and reception via anten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eful alignmen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spreads in all dir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received by many antenna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GHz to 40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wa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ly 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tell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0MHz to 1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2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restrial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bolic dis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haul tele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er frequencies give higher 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tellite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is rela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receives on one frequency, amplifies or repeats signal and transmits on anoth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geo-stationary or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ight of 35,784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 business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Radi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M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HF and VHF 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ffers from multipath 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l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ra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e noncoherent infrared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 (or reflec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ed by wa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V remote control, IRD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Fact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bandwidth gives high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impair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receiv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guided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receivers (multi-point) introduce more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magnetic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7401"/>
          <a:stretch/>
        </p:blipFill>
        <p:spPr>
          <a:xfrm>
            <a:off x="762120" y="1676520"/>
            <a:ext cx="761976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uided 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rcRect l="2349" t="0" r="16196" b="81868"/>
          <a:stretch/>
        </p:blipFill>
        <p:spPr>
          <a:xfrm>
            <a:off x="380880" y="1752480"/>
            <a:ext cx="8305920" cy="2448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comm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house and local exchange (subscriber loo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private branch exchange (PB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local area networks (LA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Mbps or 10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work wi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5km to 6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ither analog or digita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2km or 3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bandwidth (1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ata rate (100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interference and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5T12:24:05Z</dcterms:created>
  <dc:creator>Adrian J Pullin</dc:creator>
  <dc:description/>
  <dc:language>en-US</dc:language>
  <cp:lastModifiedBy>Adrian J Pullin</cp:lastModifiedBy>
  <dcterms:modified xsi:type="dcterms:W3CDTF">1999-10-13T14:41:49Z</dcterms:modified>
  <cp:revision>26</cp:revision>
  <dc:subject/>
  <dc:title>William Stallings Data and Computer Communications</dc:title>
</cp:coreProperties>
</file>